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37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38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39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FEA-ACC8-4512-A3E8-0BD587144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2: 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zejména osoby sociálně vyloučené a osoby ohrožené sociálním vyloučením, znevýhodněné skupiny obyvatel, osoby žijící v sociálně vyloučených lokalitách, etnické menšiny a osoby z jiného socio-kulturního prostředí, imigranti, osoby bez přístřeší, poskytovatelé a zadavatelé sociálních a zdravotních služeb, místní samosprávy, at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018C-D220-4734-A53C-0EE2BAE75320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93E-042F-4D0D-AD3D-0180A2829A03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3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: zejména uchazeči a zájemci o zaměstnání, neaktivní osoby, osoby sociálně vyloučené nebo ohrožené sociálním vyloučením a chudobou, zaměstnavatelé a zaměstnanci, sociální pracovníci poskytovatelů služeb, zaměstnanci NNO a sociálních podniků at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B8F-1AB7-4859-8028-739BE62129FF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D649-65C4-4A66-8F22-62D6391B4797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4: 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zejména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rganizační složky státu včetně justice, státní příspěvkové organizace, obce a kraje, zaměstnanci těchto institucí, veřejn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445-022B-40F6-9CE4-020F6177ADEB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3E7-9371-4C92-BF47-8F0889BB8AB8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1C5-40D4-45DA-B44A-BBEBD166483C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1E8-B277-4FF6-9E32-1DF62D74F44D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9CEA-C6FE-42F3-91DC-C94E45D52D02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0989-D0B9-4A2C-986E-CA0BB3D2290C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DB04-599D-4993-9193-D4777332B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5C0-187C-4A70-AF36-3C167822F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333D-0349-449C-97A0-0AFACDC5A822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1: 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zejména uchazeči a zájemci o zaměstnání, neaktivní osoby, ženy ohrožené na trhu práce, zaměstnanci a zaměstnavatelé, instituce trhu práce a jejich zaměstnanci, nezaměstnaní a neaktivní lidé mladší 30 let věku v Ústeckém a Karlovarském kraj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A72B-6071-42B2-8BD4-79BA7525BD57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979-D53F-49BA-B49B-E2CFAB2F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C7D-CC43-462B-B9F9-1266A866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5FF3-08B0-4D16-9A3C-858C38C4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DD6E5-5F08-4B78-B973-0D84F6C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8F12-5194-4199-BA30-23C3E86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ABDF7-E6DF-40E0-B7C8-ECE458B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82A3-9C21-430E-97B6-F966CA3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DBCED-9E2F-4D4B-A234-A619E63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7B463-9FAE-45CA-B395-29558816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D521-B07F-4C32-8A2C-539AB5DE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283E-2357-41C8-807F-F601E717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B6D-2EF6-4449-84C7-6F8FFAF0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F98-3428-4355-B123-568A0ADF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67C90-8C17-445D-8CC4-440D9275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D8A4F-CE15-4746-AC39-31051674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A2345-B7B9-44F4-895E-E2084AB0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D5FAB-98D7-4FE8-9A60-738FEEA7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51420-FDA8-4AB1-9A70-77AA26A2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190DC-F378-4057-A6DD-2122F447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14C6A-E4DC-468F-997E-C5D065A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F6A98-C9D1-4EC0-97AE-AF2BA335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8AD1D-C8DB-4237-B2FC-F6271738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2715-9F59-40E7-8C03-3BE1CD11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25CC8-4F15-47D8-BCAB-489D112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C971E-518A-45A7-AF6E-5CC31B98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6E53A-8642-49E4-8BCD-A1D5361F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4D319-0642-41D0-8502-D81E8F1F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0F328-FD05-4B66-9D9D-BE949D03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E428-4D9E-4CEB-92F6-6B25B33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F29EA-C226-4CAD-8C01-8C2BEC2C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7A0D7-5D62-4D83-ADB0-85AF3B1C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D116A-A527-4A6C-ADDE-B9BC709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3B1B2-458D-47DF-B3C8-81B96D8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86C5-397C-40DA-86D3-FF9EDD2D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928F9-2AF9-4E19-A0CA-CFE86B50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EEAE4-C60F-4815-A6C9-8D458A79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33559-A775-4E72-B9F8-C91616C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39E8D-8D65-4060-A619-EC5878C2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002CA-09A4-43D3-A3A9-C556C751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C7F8D-A5FE-4E7C-9104-17218C8E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8062C-3DA4-4030-938A-59732FD4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2C5F8-8BD9-44F0-AE3D-C54BA0E0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DF96D-1C50-4B19-B5FF-D6E8306E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D08B2-C755-45F8-9CAB-A6B0FF5C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D94B-6C89-4A03-8270-B851399E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53DBC-B5F9-4EC1-85A6-BE154363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7B884-9E16-44C8-BF8B-D9C6E238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4065C-6273-4D9A-B94C-1789B21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8A0E9-9C42-4ECD-98B9-A886CA04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AC169-CA8F-4CB5-B140-F6BB20AB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C1683-85B0-4D4F-AB14-A3ED9401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4F945-33C5-4BC6-9F70-1FB45129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DCED2-534D-4343-9831-886EA20B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615E0-74CC-46EE-9528-CBE3F077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AE4D9-2924-414D-836F-7FE53D1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C255-EA17-4CA7-ADD8-3540EF89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7D3B7-7C1C-4479-B616-3970EDD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FE43C-5810-4CF4-B56C-22AFB3B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55F6B-5BB3-4DBE-97DB-3C51E341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4293D-7078-47AC-BA59-DF62DC7D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06912-802A-4E52-A3B4-B3A5AE9C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B7D7D-D4EA-42E0-BEDF-52F99C25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8CB09-9A34-4174-8184-B8F1B0B5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53C18-2799-4BAF-803F-3ADA7F17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1A860-0DFF-480B-BA74-4E98EC26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9275-2899-4B0C-9D96-D6B6F831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83FB-274A-43EE-A829-1E7A381F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EA72-DD58-455F-9CD5-C834872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ED7-89D3-43E8-8892-CFCAACC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FA91-2C01-4314-B0D7-BB15613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075A-4786-4C23-8633-1C0BA14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D79A-79DE-4037-97D3-7464407B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1EE4-C3C1-4E5B-B8A6-5FCE1577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7D1E-B6C2-48E2-9858-08A6995A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D44F-600C-46AA-A97F-32A279B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E588-82D0-46B1-9636-3D7BB58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FBDC-628B-468C-A04D-9C0C9AA9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ED8D-31D3-4564-AFCF-C73807FB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A956-F501-4358-A58D-5023ADA0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63A-D7E2-45C4-BCAB-AEB1679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9ACE-7813-46D9-8BBC-35A35351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E064-C3C3-4C20-B343-E6990CE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89CA-C3D8-4399-B341-CB475AC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04E3-EAFF-4EEF-A16A-02B69DA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D046-02E3-4EF9-BF47-26507C8F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92F8-18AA-4CEE-83DA-159A31E3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2592-5DFD-4569-B782-10A6AECD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3AC-4F24-43A7-8A7C-EA9F4AF5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4472-85E9-40CC-A8C2-A307824C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237-8056-45B1-B555-374BF592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9C0C-27C2-45D2-A592-A3BFED05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445D3-64D9-40D5-8830-D17FFA15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813F-5CB4-4ADD-AC20-0AE53511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82CC-5F2D-439D-BE05-DDFBF217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0DBD-E639-4742-BED4-7718563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0CA0-1BC2-4387-ABD2-B05D5BE9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C140-4C90-4CD2-9A57-3657C2F4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CD55-8D80-4ADA-A551-AA8C56F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698E-FE5A-42D0-98EF-1F8D34FC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04471-E7EE-4D6A-9D85-94E3C0F8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786-2B38-476E-B340-2CC08CC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1359-EBAA-49CE-9B0D-E1319DC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4F8A-DAC8-42F5-AC6F-FBF225D3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C945-65D9-4599-B46D-3531CC50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5F45-F891-4B23-9EFD-BBB1E6C4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5551-FE76-421F-82E5-770A15E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8D2D-B5E3-4BA2-8327-654E24BB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E1E9-095A-424D-A8CB-5DDDB972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6C90-7390-475C-84F5-9258C84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01D62-CC1F-4113-A353-411A039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80B5-4BC4-4BF4-AA5E-779A6612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D4F-ADFA-4772-A3F1-FCFB1D6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3F82-EC88-4170-ADEA-A9DDA133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F3E4-0F75-47CC-92CC-CBE773B0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1551-E017-4C9C-89CF-AB4DF348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02A1-F782-4C7D-9C8A-89B6FB45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5862-54B1-4B21-9B8D-8337B05D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0210-1D44-4BB9-A6A1-4318B3E8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17EE-E8AE-4577-8680-298179D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600C0-6A8F-4AB5-807F-E6D3F850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CC5AC-8791-4B75-A390-FB4E6EB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3C5C8-9B85-428F-AFDD-B6872F0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B53-4AF5-450B-8AFD-5A5ED21B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F1DDC-63C7-4F55-B279-DF8633F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54398-9400-40D1-9E38-E73C82D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D08C-BCD1-450F-A5E4-03544EF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21FE-C665-4CD9-8C34-6E8261C8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442B3-0B0A-463E-889E-A36A6506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485D-22CE-4E29-8A83-AD080FE5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5956E-A964-4643-A93C-FB4F82C9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DFFB-B099-46D5-ACF9-2C665407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2322C-B599-4798-ADFE-8159504C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DBDD1-CED0-4283-8E9F-5D11A154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B5B-9BCB-4FBB-ADB8-E2D3DF1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5CCBB-34BB-4611-8EAF-4AD796F2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68A05-E3F3-4755-AE30-C3B23CE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38B7-17A4-4665-B7DA-1A09C6E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935C-A4FB-4571-B92C-E759AF02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B07C-7FB8-40F3-BD6C-557875AC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0086-A78F-448A-B59C-F00C8EC1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EBCC-6396-4000-9736-25DC6D7D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3D9E-6771-453A-9F88-F683D70A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EADB8-4C34-4279-B19E-91E8B325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686DF-C75B-48DF-86B0-0521FD51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937-6647-439F-85F0-D92D3D28094F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6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7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0" y="0"/>
            <a:ext cx="9144000" cy="6732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9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410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411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1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2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7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F894-49CA-45C0-8D56-56D1393B33BF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5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6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A95-B19D-488A-8FE1-0B134CFBCE91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9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0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1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2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3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64BB-64AA-4630-B67B-F36E83BAB089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3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4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3FF3-C819-46B3-9A6D-956BDF901245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FE6-1318-494C-8245-6EACE9D383E9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9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0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1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2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93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94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408-9283-410E-977E-3E2B330DD06A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7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8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9" name="Obdélník 9"/>
          <p:cNvSpPr/>
          <p:nvPr/>
        </p:nvSpPr>
        <p:spPr>
          <a:xfrm>
            <a:off x="0" y="0"/>
            <a:ext cx="9144000" cy="6732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40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141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142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2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3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4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5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186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187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5EDC-0AE6-454B-8E88-43025D8C2745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0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1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0CA-72D4-4A56-947B-1EFB69B99AD2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4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5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DAC5-6D52-4A78-91D2-C971FB020C72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8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9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BF80-8869-47BC-B5D1-108EF261A836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2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3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7D04-A85D-4A5D-91D6-F72DF1032F54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lenka.kaucka@mpsv.cz" TargetMode="External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835280" y="2997000"/>
            <a:ext cx="6913440" cy="2160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84a8b"/>
                </a:solidFill>
                <a:latin typeface="Arial"/>
              </a:rPr>
              <a:t>OPERAČNÍ PROGRAM ZAMĚSTNANOST </a:t>
            </a:r>
            <a:br>
              <a:rPr sz="4000"/>
            </a:br>
            <a:r>
              <a:rPr b="1" lang="pl-PL" sz="4000" spc="-1" strike="noStrike">
                <a:solidFill>
                  <a:srgbClr val="084a8b"/>
                </a:solidFill>
                <a:latin typeface="Arial"/>
              </a:rPr>
              <a:t>(2014-2020)</a:t>
            </a:r>
            <a:endParaRPr b="1" lang="en-US" sz="4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03000" y="4016160"/>
            <a:ext cx="7272360" cy="150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1332000" y="3715920"/>
            <a:ext cx="7270560" cy="53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36" name="Picture 3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193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2 SOCIÁLNÍ ZAČLEŇOVÁNÍ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BOJ S CHUDOBOU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67" name="Zástupný symbol pro obsah 4" descr=""/>
          <p:cNvPicPr/>
          <p:nvPr/>
        </p:nvPicPr>
        <p:blipFill>
          <a:blip r:embed="rId1"/>
          <a:stretch/>
        </p:blipFill>
        <p:spPr>
          <a:xfrm>
            <a:off x="231840" y="1335240"/>
            <a:ext cx="8710560" cy="5194080"/>
          </a:xfrm>
          <a:prstGeom prst="rect">
            <a:avLst/>
          </a:prstGeom>
          <a:ln w="0">
            <a:noFill/>
          </a:ln>
        </p:spPr>
      </p:pic>
      <p:sp>
        <p:nvSpPr>
          <p:cNvPr id="668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6BF-5EE1-4725-B4BE-2983E3130640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fddfa"/>
                </a:solidFill>
                <a:latin typeface="Arial"/>
                <a:ea typeface="Arial"/>
              </a:rPr>
              <a:t>SOCIÁLNÍ PODNIKÁNÍ </a:t>
            </a:r>
            <a:endParaRPr b="1" lang="en-US" sz="28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70" name="Zástupný symbol pro obsah 12" descr=""/>
          <p:cNvPicPr/>
          <p:nvPr/>
        </p:nvPicPr>
        <p:blipFill>
          <a:blip r:embed="rId1"/>
          <a:stretch/>
        </p:blipFill>
        <p:spPr>
          <a:xfrm>
            <a:off x="304920" y="1195560"/>
            <a:ext cx="8534160" cy="5491080"/>
          </a:xfrm>
          <a:prstGeom prst="rect">
            <a:avLst/>
          </a:prstGeom>
          <a:ln w="0">
            <a:noFill/>
          </a:ln>
        </p:spPr>
      </p:pic>
      <p:sp>
        <p:nvSpPr>
          <p:cNvPr id="671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4D4-D637-4B0C-BE39-67DDB7B39592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6012000" y="1341360"/>
            <a:ext cx="792000" cy="782640"/>
          </a:xfrm>
          <a:prstGeom prst="rect">
            <a:avLst/>
          </a:prstGeom>
          <a:ln w="0">
            <a:noFill/>
          </a:ln>
        </p:spPr>
      </p:pic>
      <p:pic>
        <p:nvPicPr>
          <p:cNvPr id="673" name="Obrázek 6" descr=""/>
          <p:cNvPicPr/>
          <p:nvPr/>
        </p:nvPicPr>
        <p:blipFill>
          <a:blip r:embed="rId3"/>
          <a:stretch/>
        </p:blipFill>
        <p:spPr>
          <a:xfrm>
            <a:off x="1187280" y="2894040"/>
            <a:ext cx="12272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3 SOCIÁLNÍ INOVACE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MEZINÁRODNÍ SPOLUPRÁCE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75" name="Zástupný symbol pro obsah 4" descr=""/>
          <p:cNvPicPr/>
          <p:nvPr/>
        </p:nvPicPr>
        <p:blipFill>
          <a:blip r:embed="rId1"/>
          <a:stretch/>
        </p:blipFill>
        <p:spPr>
          <a:xfrm>
            <a:off x="603360" y="1335240"/>
            <a:ext cx="8076960" cy="5052960"/>
          </a:xfrm>
          <a:prstGeom prst="rect">
            <a:avLst/>
          </a:prstGeom>
          <a:ln w="0">
            <a:noFill/>
          </a:ln>
        </p:spPr>
      </p:pic>
      <p:sp>
        <p:nvSpPr>
          <p:cNvPr id="676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CABE-E1C5-46FD-BCF2-E95ABCDF739B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3 SOCIÁLNÍ INOVACE </a:t>
            </a:r>
            <a:br>
              <a:rPr sz="2000"/>
            </a:b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A MEZINÁRODNÍ SPOLUPRÁCE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049C-E621-4E37-B073-1143C8A61389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79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Termín vyhlášení výzvy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srpen 2015 – žadatelé ÚOS,OSS,PO kraje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80" name="Diagram 6" descr=""/>
          <p:cNvPicPr/>
          <p:nvPr/>
        </p:nvPicPr>
        <p:blipFill>
          <a:blip r:embed="rId1"/>
          <a:stretch/>
        </p:blipFill>
        <p:spPr>
          <a:xfrm>
            <a:off x="450720" y="2341440"/>
            <a:ext cx="83152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82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" y="1322280"/>
            <a:ext cx="8071200" cy="5065920"/>
          </a:xfrm>
          <a:prstGeom prst="rect">
            <a:avLst/>
          </a:prstGeom>
          <a:ln w="0">
            <a:noFill/>
          </a:ln>
        </p:spPr>
      </p:pic>
      <p:sp>
        <p:nvSpPr>
          <p:cNvPr id="683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6CA-C063-4CAA-BC23-D25D04512378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85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AACC-15E7-4F17-9781-29832C4E1EA7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86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Termín vyhlášení výzvy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září 2015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87" name="Diagram 6" descr=""/>
          <p:cNvPicPr/>
          <p:nvPr/>
        </p:nvPicPr>
        <p:blipFill>
          <a:blip r:embed="rId1"/>
          <a:stretch/>
        </p:blipFill>
        <p:spPr>
          <a:xfrm>
            <a:off x="438120" y="2273400"/>
            <a:ext cx="8199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8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DA21-24FB-42C8-9655-2447B4A3D990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90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Termín vyhlášení výzvy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září 2015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91" name="Diagram 2" descr=""/>
          <p:cNvPicPr/>
          <p:nvPr/>
        </p:nvPicPr>
        <p:blipFill>
          <a:blip r:embed="rId1"/>
          <a:stretch/>
        </p:blipFill>
        <p:spPr>
          <a:xfrm>
            <a:off x="725400" y="2401920"/>
            <a:ext cx="80406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93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F2F4-35C9-4837-A582-A9F11EDC0E72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94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Podmínky pro realizaci projektů VS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95" name="Diagram 2" descr=""/>
          <p:cNvPicPr/>
          <p:nvPr/>
        </p:nvPicPr>
        <p:blipFill>
          <a:blip r:embed="rId1"/>
          <a:stretch/>
        </p:blipFill>
        <p:spPr>
          <a:xfrm>
            <a:off x="731880" y="2414520"/>
            <a:ext cx="80517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50920" y="2610000"/>
            <a:ext cx="6732720" cy="324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84a8b"/>
                </a:solidFill>
                <a:latin typeface="Arial"/>
              </a:rPr>
              <a:t>NASTAVENÍ PRAVIDEL PRO ŽADATELE A PŘÍJEMCE OPZ</a:t>
            </a:r>
            <a:br>
              <a:rPr sz="3200"/>
            </a:b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97" name="Zástupný symbol pro obrázek 1"/>
          <p:cNvSpPr/>
          <p:nvPr/>
        </p:nvSpPr>
        <p:spPr>
          <a:xfrm>
            <a:off x="900000" y="249228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98" name="Picture 5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569880" y="2565360"/>
            <a:ext cx="120024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RAVIDLA PRO ŽADATELE A PŘÍJEMCE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9492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becná část pravidel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pro všechny) a k tomu dle charakteru projektu některá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specifická část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ravidel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becná část pravidel: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např. spolufinancování, monitorování včetně indikátorů, zadávání zakázek, veřejná podpora, povinnosti v oblasti informování a komunikace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Specifické části pravidel: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např. změny projektu, způsobilé výdaje, finanční tok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Důvod: různé metody vykazování výdajů vyžadují odlišné nastavení způsobilosti a s tím souvisí i změny projektů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Na </a:t>
            </a:r>
            <a:r>
              <a:rPr b="0" lang="cs-CZ" sz="2000" spc="-1" strike="noStrike" u="sng">
                <a:solidFill>
                  <a:srgbClr val="084a8b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k dispozici: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becná část pravidel pro žadatele a příjemce 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Specifická část pravidel pro žadatele a příjemce pro projekty se skutečně vzniklými výdaji a případně také s nepřímými náklad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Semináře, aktualit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97C8-681D-40DE-8AE5-4E129454F4AC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OPERAČNÍ PROGRAM ZAMĚSTNANOST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2014 – 2020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9640" y="1557000"/>
            <a:ext cx="806472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perační program Zaměstnanost schválen 6.května 2015 jako třetí OP v ČR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yhlášení prvních výzev (uzavřených) červen 2015, otevřených od srpna 2015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árodní cíl Strategie Evropa 2020: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výšit míru zaměstnanosti na 75% v roce 2020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chování stejného počtu osob ohrožených chudobou nebo sociálním vyloučením na úrovni roku 2008 s úsilím o snížení o 30.000 osob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81C1-003E-46E2-84F5-163E5E157FE9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40" name="Picture 2" descr="C:\Program Files\Microsoft Office\MEDIA\CAGCAT10\j0302953.jpg"/>
          <p:cNvPicPr/>
          <p:nvPr/>
        </p:nvPicPr>
        <p:blipFill>
          <a:blip r:embed="rId1"/>
          <a:stretch/>
        </p:blipFill>
        <p:spPr>
          <a:xfrm>
            <a:off x="7236000" y="525600"/>
            <a:ext cx="720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LÁNOVÁNÍ VÝZEV OPZ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39640" y="1483920"/>
            <a:ext cx="806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 období 2014-2020 je kladen větší důraz na plánování výzev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ůči žadatelům se to projeví pravidelnou aktualizací harmonogramu výzev připravovaných k vyhláše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Harmonogram obsahuje také plánované zaměření a předpokládané oprávněné žadatele o podporu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ředstih zveřejnění výzvy minimálně 6 měsíců předem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665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Neplatí pro výzvy z roku 2015, kdy dochází k zahájení implementace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Harmonogram výzev je k dispozici na </a:t>
            </a:r>
            <a:r>
              <a:rPr b="0" lang="cs-CZ" sz="2000" spc="-1" strike="noStrike" u="sng">
                <a:solidFill>
                  <a:srgbClr val="084a8b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, prozatím je k dispozici tabulka s plánovanými výzvami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B51-1B34-488B-A209-B3860A041DD2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TYPY VÝZEV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39640" y="1413000"/>
            <a:ext cx="806472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uzavřené (projekty přímého přidělení)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– projekty mohou realizovat pouze konkrétní subjekty, jejich výčet je vždy uveden ve výzvě. Min.výše podpory 10mil.Kč, max. není stanovena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otevřené (projekty soutěžní)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– žadatelé spolu soutěží o alokaci výzvy. Min. výše podpory 1mil.Kč, max.10mil. Projekty většinou na 2rok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kolové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– jedno kolo příjmu žádostí a po jeho proběhnutí je zavřena. Hodnotíte se všechny žádosti najednou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průběžné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– posouzení o žádosti o podporu probíhá průběžně. Přidělování podpory z alokace výzvy probíhá podle pořadí, v jakém žadatelé podali žádosti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76AA-055C-474C-A8A8-E53B0C255C79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ELEKTRONIZACE –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MS2014+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39640" y="1773000"/>
            <a:ext cx="806472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4a8b"/>
                </a:solidFill>
                <a:latin typeface="Arial"/>
              </a:rPr>
              <a:t>Implementace OPZ bude probíhat v monitorovacím systému MS2014+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Určen pro všechny operační programy financované z ESI fondů  v období 2014-2020 (výjimky pro oblast zemědělství a rybolovu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jišťován Ministerstvem pro místní rozvoj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zitivní: Sjednocení terminologie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dbourání listinné komunikace – žádost, přílohy, monitorovací zprávy, změny v projektech tzv. změnové řízení atd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Musí být podepsáno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valifikovaným elektronickým podpisem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D0A-683E-483E-8D56-47486E7F3BC3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SPOLUFINANCOVÁ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D581-BF09-457B-8BF2-0727FD834601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468360" y="1413000"/>
          <a:ext cx="8207280" cy="5040360"/>
        </p:xfrm>
        <a:graphic>
          <a:graphicData uri="http://schemas.openxmlformats.org/drawingml/2006/table">
            <a:tbl>
              <a:tblPr/>
              <a:tblGrid>
                <a:gridCol w="5040360"/>
                <a:gridCol w="3166920"/>
              </a:tblGrid>
              <a:tr h="37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5f5f5"/>
                          </a:solidFill>
                          <a:latin typeface="Arial"/>
                        </a:rPr>
                        <a:t>Typ příjemce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18720">
                      <a:solidFill>
                        <a:srgbClr val="f5f5f5"/>
                      </a:solidFill>
                    </a:lnB>
                    <a:solidFill>
                      <a:srgbClr val="5fb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5f5f5"/>
                          </a:solidFill>
                          <a:latin typeface="Arial"/>
                        </a:rPr>
                        <a:t>Zajištění národního podílu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18720">
                      <a:solidFill>
                        <a:srgbClr val="f5f5f5"/>
                      </a:solidFill>
                    </a:lnB>
                    <a:solidFill>
                      <a:srgbClr val="5fbbf5"/>
                    </a:solidFill>
                  </a:tcPr>
                </a:tc>
              </a:tr>
              <a:tr h="121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ční složky státu a jejich příspěvkové organizace</a:t>
                      </a: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, státní vysoké školy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ociální partneři, svazy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Nestátní neziskové organizace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1872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0 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celý národní podíl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1872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</a:tr>
              <a:tr h="149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Územní správní celky a jimi zřizované organizace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Veřejné vysoké školy 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Výzkumné organizace (dle zákona č. 130/2002 Sb.)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min. 5 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zbytek národního podílu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Školy a školská zařízení (zapsané ve školském rejstříku)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min. 5 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zbytek národního podílu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(ale ŘO může snížit)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Obchodní společnosti, OSVČ, Družstva, Státní podniky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celý národní podíl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0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KŘÍŽOVÉ FINANCOVÁ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9492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díl výdajů na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řížové financování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esmí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v rámci celkových způsobilých výdajů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za každou prioritní osu překročit 10 %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zodpovědnost za dodržení limitu má ŘO);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a úrovni projektu z pravidel OPZ žádný limit nevyplývá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(resp. platí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mezení pro rozsah investičních výdajů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v projektu ve výši max.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50 %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způsobilých výdajů;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ŘO může ve výzvě k předkládání žádostí o podporu stanovit limit pro křížové financování v projektech v návaznosti na zaměření výzvy a také s ohledem na rozsah využití křížového financování v jiných podpořených či plánovaných projektech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C451-3CB8-4610-BD37-E427B205A4C0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KŘÍŽOVÉ FINANCOVÁ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DŮLEŽITÉ: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řížové financování je v OPZ definováno odlišně od OP LZZ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došlo ke změně nařízení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812880" indent="-27000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PZ: KF = infrastruktura (nákup, rekonstrukce); za infrastrukturu se považují budovy, stavby, pozemky a technická zařízení nezbytná pro fungování budov a staveb, s nemovitostmi pevně spojená (vodovod, kanalizace, energetické, komunikační vedení apod.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812880" indent="-27000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 infrastrukturu se nepovažují movité a samostatně pořizované věci využívané při realizaci projektů (vybavení, nábytek, učební pomůcky, přístroje sloužící k výuce nebo používané při výzkumu a vývoji apod.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812880" indent="-27000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ŘO může v textu výzvy omezit, za jakým účelem bude křížové financování využito 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03A-59CD-47E8-81E7-5440FB872F03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VYUŽITÍ JEDNOTKOVÝCH NÁKLADŮ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39640" y="1341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Jednotkové náklad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Jedna z metod zjednodušeného vykazová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dpora se proplácí za dosažení předem stanoveného výstupu/výsledku,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eprokazují se jednotlivé výdaje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 OPZ se připravuje vyšší míra využívání jednotkových nákladů oproti OP LZZ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kročilá příprava systému podpory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zařízení péče o děti předškolního věku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vznik, transformace a provoz zařízení typu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dětské skupiny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kročilá příprava sytému podpory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dalšího profesního vzdělávání zaměstnanců ve firmách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podle zaměření daného vzdělávání vymezeno 6 základních skupin kurzů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e fázi analýz je potenciální využití jednotkových nákladů na rekvalifikace a sociální služb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059C-0564-4B25-9A8F-405B589DF99C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RACOVNÍ ÚVAZEK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14360" indent="-3286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Pracovní úvazek - maximálně 1,0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414360" indent="-328680" algn="just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racovní úvazky zaměstnance se nesmí překrývat a není možné, aby byl placen za stejnou práci vícekrát.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414360" indent="-32868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Úvazek osoby, u které je odměňování i jen částečně hrazeno z prostředků projektu OPZ, může být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maximálně 1,0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dohromady u všech subjektů (příjemce a partneři) zapojených  do  daného  projektu  (tj.  součet  veškerých  úvazků  zaměstnance u zaměstnavatele/ů včetně případných DPP a DPČ nesmí překročit jeden pracovní úvazek), a to po celou dobu zapojení daného pracovníka do realizace projektu OPZ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algn="just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398C-BBC6-4BEB-AA6E-06F41AB854F4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08000" y="2924280"/>
            <a:ext cx="5328000" cy="14414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84a8b"/>
                </a:solidFill>
                <a:latin typeface="Arial"/>
              </a:rPr>
              <a:t>DĚKUJI VÁM           ZA POZORNOST</a:t>
            </a:r>
            <a:br>
              <a:rPr sz="4000"/>
            </a:br>
            <a:br>
              <a:rPr sz="4000"/>
            </a:br>
            <a:r>
              <a:rPr b="1" lang="cs-CZ" sz="2500" spc="-1" strike="noStrike" u="sng">
                <a:solidFill>
                  <a:srgbClr val="084a8b"/>
                </a:solidFill>
                <a:uFillTx/>
                <a:latin typeface="Arial"/>
              </a:rPr>
              <a:t>blazena.krizova</a:t>
            </a:r>
            <a:r>
              <a:rPr b="1" lang="cs-CZ" sz="2500" spc="-1" strike="noStrike" u="sng">
                <a:solidFill>
                  <a:srgbClr val="084a8b"/>
                </a:solidFill>
                <a:uFillTx/>
                <a:latin typeface="Arial"/>
                <a:hlinkClick r:id="rId1"/>
              </a:rPr>
              <a:t>@mpsv.cz</a:t>
            </a:r>
            <a:br>
              <a:rPr sz="2500"/>
            </a:br>
            <a:r>
              <a:rPr b="1" lang="cs-CZ" sz="2500" spc="-1" strike="noStrike">
                <a:solidFill>
                  <a:srgbClr val="084a8b"/>
                </a:solidFill>
                <a:latin typeface="Arial"/>
              </a:rPr>
              <a:t>Odbor podpory projektů (86)</a:t>
            </a:r>
            <a:endParaRPr b="1" lang="en-US" sz="2500" spc="-1" strike="noStrike">
              <a:solidFill>
                <a:srgbClr val="afdd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OPZ – ALOKACE A VĚCNÉ ZAMĚŘE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42" name="Zástupný symbol pro obsah 7" descr=""/>
          <p:cNvPicPr/>
          <p:nvPr/>
        </p:nvPicPr>
        <p:blipFill>
          <a:blip r:embed="rId1"/>
          <a:stretch/>
        </p:blipFill>
        <p:spPr>
          <a:xfrm>
            <a:off x="463680" y="1189080"/>
            <a:ext cx="8143920" cy="5516640"/>
          </a:xfrm>
          <a:prstGeom prst="rect">
            <a:avLst/>
          </a:prstGeom>
          <a:ln w="0">
            <a:noFill/>
          </a:ln>
        </p:spPr>
      </p:pic>
      <p:sp>
        <p:nvSpPr>
          <p:cNvPr id="643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93D1-268E-4F03-98D8-15FDD070576A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45" name="Zástupný symbol pro obsah 2" descr=""/>
          <p:cNvPicPr/>
          <p:nvPr/>
        </p:nvPicPr>
        <p:blipFill>
          <a:blip r:embed="rId1"/>
          <a:stretch/>
        </p:blipFill>
        <p:spPr>
          <a:xfrm>
            <a:off x="480960" y="1298520"/>
            <a:ext cx="8266320" cy="4900680"/>
          </a:xfrm>
          <a:prstGeom prst="rect">
            <a:avLst/>
          </a:prstGeom>
          <a:ln w="0">
            <a:noFill/>
          </a:ln>
        </p:spPr>
      </p:pic>
      <p:sp>
        <p:nvSpPr>
          <p:cNvPr id="646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38AD-7CF9-4DAD-8BB3-902CCCA93AA4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F700-CA62-4283-AB7F-9604E6F7B14D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8064720" cy="4319280"/>
          </a:xfrm>
          <a:prstGeom prst="rect">
            <a:avLst/>
          </a:prstGeom>
          <a:ln w="0">
            <a:noFill/>
          </a:ln>
        </p:spPr>
      </p:pic>
      <p:grpSp>
        <p:nvGrpSpPr>
          <p:cNvPr id="650" name="Skupina 5"/>
          <p:cNvGrpSpPr/>
          <p:nvPr/>
        </p:nvGrpSpPr>
        <p:grpSpPr>
          <a:xfrm>
            <a:off x="1204920" y="2165400"/>
            <a:ext cx="6734160" cy="2527200"/>
            <a:chOff x="1204920" y="2165400"/>
            <a:chExt cx="6734160" cy="2527200"/>
          </a:xfrm>
        </p:grpSpPr>
        <p:sp>
          <p:nvSpPr>
            <p:cNvPr id="651" name="Zaoblený obdélník 6"/>
            <p:cNvSpPr/>
            <p:nvPr/>
          </p:nvSpPr>
          <p:spPr>
            <a:xfrm>
              <a:off x="1204920" y="2165400"/>
              <a:ext cx="6734160" cy="2527200"/>
            </a:xfrm>
            <a:prstGeom prst="roundRect">
              <a:avLst>
                <a:gd name="adj" fmla="val 16667"/>
              </a:avLst>
            </a:prstGeom>
            <a:solidFill>
              <a:srgbClr val="084a8b"/>
            </a:solidFill>
            <a:ln w="38160">
              <a:solidFill>
                <a:srgbClr val="f5f5f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4a8b"/>
                </a:solidFill>
                <a:latin typeface="Arial"/>
              </a:endParaRPr>
            </a:p>
          </p:txBody>
        </p:sp>
        <p:sp>
          <p:nvSpPr>
            <p:cNvPr id="652" name="Zaoblený obdélník 4"/>
            <p:cNvSpPr/>
            <p:nvPr/>
          </p:nvSpPr>
          <p:spPr>
            <a:xfrm>
              <a:off x="1328400" y="2288880"/>
              <a:ext cx="648684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cs-CZ" sz="1800" spc="-1" strike="noStrike">
                  <a:solidFill>
                    <a:srgbClr val="f5f5f5"/>
                  </a:solidFill>
                  <a:latin typeface="Arial"/>
                </a:rPr>
                <a:t>V rámci monitorování budou sbírána mj. data o případném příspěvku intervencí OPZ k udržitelnému rozvoji tak, aby bylo možné podporu vykazovat a v rámci evaluací vyhodnocovat. </a:t>
              </a:r>
              <a:br>
                <a:rPr sz="1800"/>
              </a:br>
              <a:br>
                <a:rPr sz="1800"/>
              </a:br>
              <a:r>
                <a:rPr b="0" lang="cs-CZ" sz="1800" spc="-1" strike="noStrike">
                  <a:solidFill>
                    <a:srgbClr val="f5f5f5"/>
                  </a:solidFill>
                  <a:latin typeface="Arial"/>
                </a:rPr>
                <a:t>Případná doporučení vzešlá z evaluací k problematice udržitelného rozvoje pak budou zohledněna při nastavování parametrů výzev a podmínek pro realizaci projektů a pro případné úpravy aplikace horizontálního tématu udržitelný rozvoj v průběhu realizace operačního programu.</a:t>
              </a:r>
              <a:endParaRPr b="0" lang="en-US" sz="1800" spc="-1" strike="noStrike">
                <a:solidFill>
                  <a:srgbClr val="084a8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9BEA-8B61-4030-8493-F1D532ACE3C4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84a8b"/>
                </a:solidFill>
                <a:latin typeface="Arial"/>
              </a:rPr>
              <a:t>Sociální pilíř je nedílnou složkou procesu rozvoje území na všech úrovních – je součástí územní dimenze. Proto  se objevuje v tzv. integrovaných nástrojích ITI,(integrované územní investice, IPRÚ</a:t>
            </a:r>
            <a:r>
              <a:rPr b="1" lang="cs-CZ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84a8b"/>
                </a:solidFill>
                <a:latin typeface="Arial"/>
              </a:rPr>
              <a:t>Integrované plány rozvoje území,CLLD Komunitně vedený místní rozvoj</a:t>
            </a: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84a8b"/>
                </a:solidFill>
                <a:latin typeface="Arial"/>
              </a:rPr>
              <a:t>Obsah sociálního pilíře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Demografická struktura a vývoj, zdravotní stav, 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Vzdělanostní struktura, kvalita vzdělávání, celoživotní učení 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Sociální prostředí, úroveň a dostupnost sociálního zabezpečení, sociální péče a zdravotnictví, kriminalita, exkluze různých skupin obyvatelstva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56" name="Zaoblený obdélník 4"/>
          <p:cNvSpPr/>
          <p:nvPr/>
        </p:nvSpPr>
        <p:spPr>
          <a:xfrm>
            <a:off x="1187280" y="2060640"/>
            <a:ext cx="64868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městnanost, nezaměstnanost, neaktivní občané, zdravotně postižení, trh práce, mobilita pracovní síl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Rovné příležitosti – ženy/muži, menšiny,vyznání, hendikepovaní aj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Životní úroveň,  sladění rodinného a pracovního života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Kvalita a dostupnost bydle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bčanská společnost, dostupnost veřejných služeb, komunitní aktivity, spolupráce veřejného, soukromého a neziskového sektoru 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ompetence MPSV – OPZ nabízí řeše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MMR - IROP komplementarita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D8C5-84E7-48B4-BFC5-DE88939F2DFD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1 PODPORA ZAMĚSTNANOSTI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ADAPTABILITY PRACOVNÍ SÍLY 1/2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61" name="Zástupný symbol pro obsah 5" descr=""/>
          <p:cNvPicPr/>
          <p:nvPr/>
        </p:nvPicPr>
        <p:blipFill>
          <a:blip r:embed="rId1"/>
          <a:stretch/>
        </p:blipFill>
        <p:spPr>
          <a:xfrm>
            <a:off x="536400" y="1249200"/>
            <a:ext cx="8217000" cy="5212080"/>
          </a:xfrm>
          <a:prstGeom prst="rect">
            <a:avLst/>
          </a:prstGeom>
          <a:ln w="0">
            <a:noFill/>
          </a:ln>
        </p:spPr>
      </p:pic>
      <p:sp>
        <p:nvSpPr>
          <p:cNvPr id="662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5C70-40F6-4BEF-9BFC-BCEB70DBB8D6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1 PODPORA ZAMĚSTNANOSTI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ADAPTABILITY PRACOVNÍ SÍLY 2/2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64" name="Zástupný symbol pro obsah 4" descr=""/>
          <p:cNvPicPr/>
          <p:nvPr/>
        </p:nvPicPr>
        <p:blipFill>
          <a:blip r:embed="rId1"/>
          <a:stretch/>
        </p:blipFill>
        <p:spPr>
          <a:xfrm>
            <a:off x="536400" y="1407960"/>
            <a:ext cx="8071200" cy="5053320"/>
          </a:xfrm>
          <a:prstGeom prst="rect">
            <a:avLst/>
          </a:prstGeom>
          <a:ln w="0">
            <a:noFill/>
          </a:ln>
        </p:spPr>
      </p:pic>
      <p:sp>
        <p:nvSpPr>
          <p:cNvPr id="665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6282-D860-4FE2-84DD-97ADD173D413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0T08:23:15Z</dcterms:created>
  <dc:creator>Zahradníková Petra Mgr. MBA (MPSV)</dc:creator>
  <dc:description/>
  <dc:language>en-US</dc:language>
  <cp:lastModifiedBy>Blazenka</cp:lastModifiedBy>
  <cp:lastPrinted>2015-06-11T07:01:35Z</cp:lastPrinted>
  <dcterms:modified xsi:type="dcterms:W3CDTF">2015-07-09T20:01:33Z</dcterms:modified>
  <cp:revision>126</cp:revision>
  <dc:subject/>
  <dc:title>Prezentace aplikace PowerPoint</dc:title>
</cp:coreProperties>
</file>